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C1F-4A6B-4AFC-8CA3-9D9321E8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E6A-5E0C-4503-B177-19F3AE6B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F2F-07DF-43C5-8FFE-7A016B57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B3C-EB7D-4310-B386-4F2719C5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C4D3-8646-4428-8C05-C0B5F06E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DDD-CDA9-4F7E-BB06-B6E3773D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1933-E851-4961-B79B-C6ACA5D8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5B86-3A02-42ED-839C-2FC73A2B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7980-29FF-407B-8DE2-611FF157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C1AB-442B-46E7-B72E-6F96FFBB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F7F2-D1B5-4B9C-B046-57035F12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017-720A-47DE-A855-A85DF28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E393-20DF-4C0D-AF98-D080219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E361-D0AD-4FA9-AA42-0CC89C4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C678-ADC7-46B7-B80C-2137854F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3425-4EE3-4BBA-B9DB-A9E545F4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D723-BB6D-40C1-BD4F-DA10974D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127-D71B-40D9-BA8C-EE11A336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ACF-3EB6-4F33-9015-9ACFE7FD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A2C-6541-46FB-95CB-DC35F825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87A-012F-43DC-9F59-533D6E1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688-EBEB-45FC-8D94-4EA9A94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A92-3FFA-47E7-95DA-5A48FB7D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570-8DC1-4E8A-85BB-7A42386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BACD-D28F-4198-B1A9-3D154D521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095B-D014-43F7-9D4C-A1B20722C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6600"/>
                </a:solidFill>
                <a:uFillTx/>
                <a:latin typeface="Comic Sans MS"/>
              </a:rPr>
              <a:t>Dal y bws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920" y="83664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lan, Bobbi a Ceri yn aros am y b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allent ddewis rhwng bws coch neu fely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260000" y="333360"/>
            <a:ext cx="2305080" cy="182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260000" y="4437000"/>
            <a:ext cx="2449440" cy="211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16680" y="4867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 blentyn sy’n teithio 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r un bws pob tr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h yw lliw y b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773360"/>
            <a:ext cx="6781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Os yw Alan yn mynd ar y bws </a:t>
            </a:r>
            <a:r>
              <a:rPr b="0" lang="en-GB" sz="2400" spc="-1" strike="noStrike">
                <a:solidFill>
                  <a:srgbClr val="f8e748"/>
                </a:solidFill>
                <a:latin typeface="Comic Sans MS"/>
              </a:rPr>
              <a:t>MELYN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, bydd Bobbi a Ceri yn teithio ar yr un bws a’i gily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708280"/>
            <a:ext cx="720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d48f8"/>
                </a:solidFill>
                <a:latin typeface="Comic Sans MS"/>
              </a:rPr>
              <a:t>Os yw Bobbi yn mynd ar y bws </a:t>
            </a:r>
            <a:r>
              <a:rPr b="0" lang="en-GB" sz="2400" spc="-1" strike="noStrike">
                <a:solidFill>
                  <a:srgbClr val="f8e748"/>
                </a:solidFill>
                <a:latin typeface="Comic Sans MS"/>
              </a:rPr>
              <a:t>MELYN</a:t>
            </a:r>
            <a:r>
              <a:rPr b="0" lang="en-GB" sz="2400" spc="-1" strike="noStrike">
                <a:solidFill>
                  <a:srgbClr val="5d48f8"/>
                </a:solidFill>
                <a:latin typeface="Comic Sans MS"/>
              </a:rPr>
              <a:t>, bydd Alan a Ceri yn teithio ar fws gwahanol i’w gily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716280"/>
            <a:ext cx="691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Os yw Ceri yn mynd ar y bws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H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, bydd Alan yn teithio ar yr un bws a Bobb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7164E-006 L -0.39375 0.00325 E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3003E-006 L -1.07083 0.00347 E">
                                      <p:cBhvr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31:16Z</dcterms:created>
  <dc:creator>Carwyn</dc:creator>
  <dc:description/>
  <dc:language>en-US</dc:language>
  <cp:lastModifiedBy>Carwyn</cp:lastModifiedBy>
  <dcterms:modified xsi:type="dcterms:W3CDTF">2009-04-17T16:47:17Z</dcterms:modified>
  <cp:revision>4</cp:revision>
  <dc:subject/>
  <dc:title>Dal y bws</dc:title>
</cp:coreProperties>
</file>